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209D-318E-4038-9FBA-2D2DC7D1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B86E-B6C7-49F8-908F-8BE9AC46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871D-9C6B-4D9C-AD5D-1CDB8159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A36E-966A-4FA0-A6B8-4C426F0F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BDAE-D70F-45EA-99C9-D4D27656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123A-8CEC-4B3C-964C-5E7996C4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84A8-1173-402F-A717-EF2B57A5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7009-07F9-47C0-AE19-DA2C456A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492E-5DF8-4631-8A4A-9D58DB6A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8444-1D00-4C7C-BE2B-AEAC75D8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6E01-763C-470B-A6D9-C5B9992D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5D00-F5F2-46A5-8416-4DA911E6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E46F-821D-4624-BDFF-1E3B7D5E8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Reasons for Contro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685800"/>
            <a:ext cx="7467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7610" r="0" b="34109"/>
          <a:stretch/>
        </p:blipFill>
        <p:spPr>
          <a:xfrm>
            <a:off x="1143000" y="1143000"/>
            <a:ext cx="6858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9072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14400" y="6094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990720" y="762120"/>
            <a:ext cx="7162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36763"/>
          <a:stretch/>
        </p:blipFill>
        <p:spPr>
          <a:xfrm>
            <a:off x="990720" y="838080"/>
            <a:ext cx="7010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91440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1066680" y="68580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467480" cy="3200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7543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34109"/>
          <a:stretch/>
        </p:blipFill>
        <p:spPr>
          <a:xfrm>
            <a:off x="990720" y="1447920"/>
            <a:ext cx="6781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238880" cy="2057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90720" y="3124080"/>
            <a:ext cx="7238880" cy="1067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990720" y="4343400"/>
            <a:ext cx="7238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23888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238880" cy="1911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14400" y="3200400"/>
            <a:ext cx="7162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543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2438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7543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6197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620120" cy="2438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14400" y="3124080"/>
            <a:ext cx="7620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36763"/>
          <a:stretch/>
        </p:blipFill>
        <p:spPr>
          <a:xfrm>
            <a:off x="990720" y="533520"/>
            <a:ext cx="7315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1066680"/>
            <a:ext cx="7238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838080"/>
            <a:ext cx="6934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90720" y="68580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7621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83808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762120"/>
            <a:ext cx="723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60948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04:09:24Z</dcterms:modified>
  <cp:revision>45</cp:revision>
  <dc:subject/>
  <dc:title>PowerPoint Presentation</dc:title>
</cp:coreProperties>
</file>